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  <p:custShowLst>
    <p:custShow name="Apresentação personalizada 1" id="0">
      <p:sldLst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BDF-863B-4B7C-B19D-72ADA241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764-2141-4761-AB3D-CA0594E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387-28F9-45EE-BB14-204AB9ED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7AC-02B5-4834-A160-1459780F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3180-C881-4996-9F7D-A85DF512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2347-14FC-4C57-A9DA-6F4EA8D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2A2F-92ED-4BFE-B84C-D71ED527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AE47-BC9B-419D-B5AD-F64C3E3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ABB4-43AD-410E-99E0-4720B58C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5BA-7D60-4250-966A-8C4B00C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E857-0618-4789-B8A4-4301B56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676-3580-483F-BB1C-92E4937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D8BE-5AE1-4075-8C73-6A609F6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ABE1-ACFE-4F52-B6F2-8732B3F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23AC-2DEE-4AB4-86CA-BE33D5B7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D20B-1680-4880-94B2-49884EFB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2EC9-63DA-4800-BE47-BE801123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68AFB-BEB7-458F-9F2A-FBE2F2A9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13ED4-2EEF-4C9D-8C64-382A7EE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DB81D-5AA5-407E-8AF1-1E2755B8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DB717-0D5A-4CD8-9F3F-0512A231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B98C1-C4EA-4722-8054-458447E9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337-18F3-4B52-9C68-CE91827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A841A-04AF-486B-9EF8-C47094FB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F6F71-2E6F-4C38-A3E3-D0D7B87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8F7F0-C501-4D03-9542-8D40BE26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D347E-59CA-4118-9ABB-789481FD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AEA8A-153E-43B9-B302-94067FC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8A32D-6694-431F-9E85-A1AB6B56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082D6-C356-4681-990B-440E2F94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1A1E2-6522-4CAA-8B8A-95AC0D53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2A49-3130-49AA-A7E7-2C9F577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E26D-A000-4B27-BF1A-E74FEA2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A75-3FBA-4304-9945-5AF2A7C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0B1E-C5A5-4931-BA8E-8DC6CC1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1B72-68B5-4901-9CD1-05483C6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F685-FFF6-4B70-9740-5338028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6977-4875-4341-87FB-27A5E6F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D569-84C0-4912-90FD-8E50C21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5FE3-33CB-4AF6-A81D-F16A5BF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9344-7F3F-49D1-A5D1-9AF45FCB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8B0D-F9F5-4E0E-A1C3-EEECBEA4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184D-8E19-4C54-A103-F68143C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2DC5F-16B7-40B9-B2DC-00494B99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715-9E9F-41BF-8B98-C308884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E0A95-51B9-436C-8815-CC86B59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88C42-73FD-4169-A0E0-370CB8D4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F15E5-2388-4600-B933-B5107D73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87C3F-5E2C-4CF8-A04C-0181C78F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0E8D0-24B7-4F8E-BDBC-EA83ECE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8F405-F05A-44C3-B529-6040E10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F270F-51A9-41A2-BDF6-1838B4A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98EAB-F6FB-487D-B506-B902C14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18C0F-F37D-4191-A27E-E52EB5F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5C30D-1338-4A07-B65D-C67286F2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BE1-4BE8-4697-A14F-C335151B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52862-6BF0-4CA1-B544-7A9F3F9B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E312A-6CF7-4217-9873-6EDA2DD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69F5F-0DEC-419B-8BD0-47351419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F7CA0-79A9-4129-93C5-97E0834A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3AC19-76C6-4728-8966-C081CD8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4FE8B-5159-45CB-A58E-937AA4A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C422F-3DB0-4934-8E45-EB0F6F37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E1F95-B9FE-40DD-BCE7-0FEA398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DE6ED-1F49-414E-BE5C-608D447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D438A-E0F0-492F-A215-28ACF45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6DE-3710-49DC-A418-7AB58636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D3BC5-7721-4946-96DE-169481AC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5DE6E-8539-4879-8091-CA51DC7D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532AE-8BFD-46AD-89A6-BAFEEEA1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29563-DBD2-4C3A-86EE-B43063D5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08792-8A2F-4177-8755-DE71F911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F3E68-AF2E-40E4-85CC-16659AD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DFAA9-E64B-4C0A-82D4-0C71B74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7A364-412D-4542-B0E1-F3335CE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025F8-9FDB-4A7D-B944-E26514A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6160F-BB2C-4819-A6FC-B7B926C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D14-54CA-4FA1-98BC-1135DDC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4E87A-175B-45A6-89A1-2A419F1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279F6-C783-49CD-9696-B804E9C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2AD9D-625B-4200-8158-B626898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02FE7-290B-42E0-ACD4-5686D160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A8DF0-EA6D-455F-AE7F-83D12C4D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85A-5829-4DFB-B1EF-3165A81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A18-816E-4330-A554-6751BAA7A87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0A2-8AC2-4B06-8147-D6F0A4CE24BD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5F6-C20E-4140-8EAE-043C70D9DC2F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682-8395-48B8-888A-77F137FE2FA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952-C156-4DE4-850C-35B403B7DE5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73D-9535-4B6B-8765-0CBFF11132C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96B-5FE8-4B4A-B9FA-05FD04CB9C29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ANÁLISE DE PROJETO</a:t>
            </a:r>
            <a:br>
              <a:rPr sz="2700"/>
            </a:b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CONHECENDO SUA HISTÓRIA</a:t>
            </a:r>
            <a:br>
              <a:rPr sz="2700"/>
            </a:b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REALIZADO  PELA E.E. JOSÉ FERREIRA EM TRÊS LAGOAS-MS</a:t>
            </a:r>
            <a:br>
              <a:rPr sz="2700"/>
            </a:b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O PROJETO VISOU O CONHECIMENTO HISTÓRICO E CRITICO DOS ALUNOS SOBRE  A VILA DE PESCADORES DO JUPIÁ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14560" y="692280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total de alunos 7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Realizado entre os meses de agosto a novembro de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bjetivo geral: conscientização da sua própria história e como ser um agente histór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valiação e conclusão: Realização de uma exposição com cartazes e fotos sobre a construção da usina Hidrelétrica do “Jupiá”,e  da vida dos afetados por barrage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ANÁLISE FEITA POR: JOÃO BATISTA LAZARINI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ARA O CURSO TIC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TUTORA: AZENAIDE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NOVA ANDRADINA 200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6072120"/>
            <a:ext cx="74674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6:30:52Z</dcterms:created>
  <dc:creator>joão</dc:creator>
  <dc:description/>
  <dc:language>en-US</dc:language>
  <cp:lastModifiedBy>joão</cp:lastModifiedBy>
  <dcterms:modified xsi:type="dcterms:W3CDTF">2009-05-29T16:47:33Z</dcterms:modified>
  <cp:revision>2</cp:revision>
  <dc:subject/>
  <dc:title>Análise de projeto conhecendo sua História realizado  pela E.E. José Ferreira em Três Lagoas-MS o projeto visou o conhecimento histórico e critico dos alunos sobre  a vila de pescadores do Jupiá.</dc:title>
</cp:coreProperties>
</file>